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6F54-BFFB-480E-862D-CF3E89D1C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composition of terms using 2 or more ontolog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not need to combine into one term, can be 2 separate terms as for our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tool Sohel in collaboration with Mark Gibson (NCB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b-based application as opposed to java stand-alone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using all obo format ontologies - best way to store data when it becomes more complex in the fu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4AF9-E61C-43CB-8749-2189EE7E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70D6-A1F0-490E-BCE5-C499489F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908E-4E37-4C55-846B-9F007A7D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6C69-7B84-4FB5-83E4-E02D4569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AB89-F852-4D3A-A7F5-6C0FA5A7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F5D-BE81-47B9-BEE7-EA7A79E2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A988-B2F0-4B99-A79A-467821379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E2A8-0199-4A83-9DB2-7EE36266E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7E6-47DB-4907-8829-86E752BF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EE3-B712-44B7-8D21-250233F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FE0-C5EA-4DBD-A817-90BE816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82B-FA91-41D2-958E-FF81F578D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E98D-912C-492B-9D7D-7D1A27075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 and Ontologies at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19240" y="90360"/>
            <a:ext cx="167616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33200" y="1590840"/>
            <a:ext cx="8877600" cy="3676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98600" y="2286000"/>
            <a:ext cx="1738440" cy="1111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73720" y="2101680"/>
            <a:ext cx="3429000" cy="1067040"/>
          </a:xfrm>
          <a:prstGeom prst="rect">
            <a:avLst/>
          </a:prstGeom>
          <a:solidFill>
            <a:srgbClr val="f7f7f7"/>
          </a:solidFill>
          <a:ln w="9360">
            <a:solidFill>
              <a:srgbClr val="f7f7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438280"/>
            <a:ext cx="1676520" cy="703800"/>
          </a:xfrm>
          <a:prstGeom prst="wedgeRectCallout">
            <a:avLst>
              <a:gd name="adj1" fmla="val -53305"/>
              <a:gd name="adj2" fmla="val -77296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Stra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62120" y="2155680"/>
            <a:ext cx="152280" cy="100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33200" y="1590840"/>
            <a:ext cx="8877600" cy="3676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181480" y="5105520"/>
            <a:ext cx="2590920" cy="1008720"/>
          </a:xfrm>
          <a:prstGeom prst="wedgeRectCallout">
            <a:avLst>
              <a:gd name="adj1" fmla="val -57166"/>
              <a:gd name="adj2" fmla="val -124560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e Existing Phenotype Ann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33200" y="1595520"/>
            <a:ext cx="88776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42600" cy="4903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962520" y="4495680"/>
            <a:ext cx="2590560" cy="1313640"/>
          </a:xfrm>
          <a:prstGeom prst="wedgeRectCallout">
            <a:avLst>
              <a:gd name="adj1" fmla="val 58875"/>
              <a:gd name="adj2" fmla="val -7958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vigate Parent and Child Terms. Click to Populate Phenotyp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2971800"/>
            <a:ext cx="2286000" cy="703800"/>
          </a:xfrm>
          <a:prstGeom prst="wedgeRectCallout">
            <a:avLst>
              <a:gd name="adj1" fmla="val -66245"/>
              <a:gd name="adj2" fmla="val -10474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 Phenotype 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2280" y="1598760"/>
            <a:ext cx="8877600" cy="53355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66880" y="4191120"/>
            <a:ext cx="2590920" cy="1008720"/>
          </a:xfrm>
          <a:prstGeom prst="wedgeRectCallout">
            <a:avLst>
              <a:gd name="adj1" fmla="val -57472"/>
              <a:gd name="adj2" fmla="val -11731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rieve Reference by ID or Autho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4303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3200" y="1600200"/>
            <a:ext cx="8877600" cy="428616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800600"/>
            <a:ext cx="2590920" cy="703800"/>
          </a:xfrm>
          <a:prstGeom prst="wedgeRectCallout">
            <a:avLst>
              <a:gd name="adj1" fmla="val -41736"/>
              <a:gd name="adj2" fmla="val -103629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Annot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595520"/>
            <a:ext cx="8742600" cy="5110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800600" y="5181480"/>
            <a:ext cx="2590920" cy="1008720"/>
          </a:xfrm>
          <a:prstGeom prst="wedgeRectCallout">
            <a:avLst>
              <a:gd name="adj1" fmla="val -60041"/>
              <a:gd name="adj2" fmla="val -127773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it  Annotations To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874224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/PATO 2003 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320" y="1600200"/>
            <a:ext cx="8991360" cy="42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782040" cy="34354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Resulting Phenotype Display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on the Gene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67480" y="3070080"/>
            <a:ext cx="1828800" cy="38124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0160" y="1295280"/>
            <a:ext cx="8742240" cy="5567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981080" y="5029200"/>
            <a:ext cx="2590920" cy="1008720"/>
          </a:xfrm>
          <a:prstGeom prst="wedgeRectCallout">
            <a:avLst>
              <a:gd name="adj1" fmla="val -95884"/>
              <a:gd name="adj2" fmla="val -64162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it Existing Phenotype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4840" y="1676520"/>
            <a:ext cx="87328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4840" y="1625760"/>
            <a:ext cx="8732880" cy="51368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295280" y="3079800"/>
            <a:ext cx="1295640" cy="30492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4267080"/>
            <a:ext cx="533160" cy="30492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105520"/>
            <a:ext cx="1295280" cy="304560"/>
          </a:xfrm>
          <a:prstGeom prst="ellipse">
            <a:avLst/>
          </a:prstGeom>
          <a:noFill/>
          <a:ln w="38160">
            <a:solidFill>
              <a:srgbClr val="a722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Additional Ontologie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04760" y="1828800"/>
            <a:ext cx="3110040" cy="49975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83520" y="134316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41200" y="137160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334120" y="1828800"/>
            <a:ext cx="25016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Dissection of Dicty phenotype ontology terms to fit PATO Entity-Quality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Collaboration with other groups on PATO and phenotype-related ontologies (e.g., genetic context, environmental cond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Provide phenotype annotation tool to GMOD as open-sourc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091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Principal Investig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Rex Chisho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Warren Kib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Software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Eric J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Sohel Mer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8148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Cu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Petra F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Pascale Gaud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Karen Pil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94a6f"/>
                </a:solidFill>
                <a:latin typeface="Arial"/>
              </a:rPr>
              <a:t>Fu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N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94a6f"/>
                </a:solidFill>
                <a:latin typeface="Arial"/>
              </a:rPr>
              <a:t>GO Consort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9240" y="90360"/>
            <a:ext cx="1676160" cy="10256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3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Ontology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24280" y="1523880"/>
            <a:ext cx="4305600" cy="4800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362320"/>
            <a:ext cx="4311360" cy="1937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420 Phenotype 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1780 Phenotype Ann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500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a6f"/>
                </a:solidFill>
                <a:latin typeface="Arial"/>
              </a:rPr>
              <a:t>470 Genes with Phenotype Annotation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revious Phenotype Representation in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900000">
            <a:off x="2971800" y="274284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rot="13045200">
            <a:off x="5409360" y="2718720"/>
            <a:ext cx="685800" cy="228960"/>
          </a:xfrm>
          <a:prstGeom prst="leftArrow">
            <a:avLst>
              <a:gd name="adj1" fmla="val 50000"/>
              <a:gd name="adj2" fmla="val 74882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62120" y="3124080"/>
            <a:ext cx="2792160" cy="1648080"/>
            <a:chOff x="762120" y="3124080"/>
            <a:chExt cx="2792160" cy="1648080"/>
          </a:xfrm>
        </p:grpSpPr>
        <p:sp>
          <p:nvSpPr>
            <p:cNvPr id="59" name=""/>
            <p:cNvSpPr/>
            <p:nvPr/>
          </p:nvSpPr>
          <p:spPr>
            <a:xfrm>
              <a:off x="762120" y="312408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1920" y="3276720"/>
              <a:ext cx="2362320" cy="134280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192320" y="342900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acb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henoty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943600" y="3124080"/>
            <a:ext cx="2666880" cy="1648080"/>
            <a:chOff x="5943600" y="3124080"/>
            <a:chExt cx="2666880" cy="1648080"/>
          </a:xfrm>
        </p:grpSpPr>
        <p:sp>
          <p:nvSpPr>
            <p:cNvPr id="63" name=""/>
            <p:cNvSpPr/>
            <p:nvPr/>
          </p:nvSpPr>
          <p:spPr>
            <a:xfrm>
              <a:off x="5943600" y="3124080"/>
              <a:ext cx="2362320" cy="134316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5880" y="3276720"/>
              <a:ext cx="2362320" cy="134280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48520" y="3429000"/>
              <a:ext cx="2361960" cy="1343160"/>
            </a:xfrm>
            <a:prstGeom prst="roundRect">
              <a:avLst>
                <a:gd name="adj" fmla="val 16667"/>
              </a:avLst>
            </a:prstGeom>
            <a:solidFill>
              <a:srgbClr val="eccf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i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3124080" y="1922400"/>
            <a:ext cx="2764080" cy="51300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6376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11440" y="1927080"/>
            <a:ext cx="2844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72120" y="19270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9640" y="19270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New Phenotype Representation 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in dictyBas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1784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52680" y="3152880"/>
            <a:ext cx="2362320" cy="1342800"/>
          </a:xfrm>
          <a:prstGeom prst="roundRect">
            <a:avLst>
              <a:gd name="adj" fmla="val 16667"/>
            </a:avLst>
          </a:prstGeom>
          <a:solidFill>
            <a:srgbClr val="eccf8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4305240" y="27255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4400000">
            <a:off x="3224160" y="2725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8900000">
            <a:off x="5372280" y="27252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 rot="16200000">
            <a:off x="4298400" y="466704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 rot="19800000">
            <a:off x="2936880" y="466632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 rot="13500000">
            <a:off x="5721120" y="462816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4140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894280" y="5057640"/>
            <a:ext cx="2362320" cy="1343160"/>
          </a:xfrm>
          <a:prstGeom prst="roundRect">
            <a:avLst>
              <a:gd name="adj" fmla="val 16667"/>
            </a:avLst>
          </a:prstGeom>
          <a:solidFill>
            <a:srgbClr val="acb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en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0" y="1924200"/>
            <a:ext cx="276372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0960" y="1928880"/>
            <a:ext cx="2840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4112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288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55840" y="1924200"/>
            <a:ext cx="276408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39552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43200" y="1928880"/>
            <a:ext cx="2844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609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038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214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88040" y="1924200"/>
            <a:ext cx="2763720" cy="512640"/>
          </a:xfrm>
          <a:prstGeom prst="rect">
            <a:avLst/>
          </a:prstGeom>
          <a:solidFill>
            <a:srgbClr val="ababa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2772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575400" y="1928880"/>
            <a:ext cx="28404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09316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36080" y="1928880"/>
            <a:ext cx="8892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553600" y="1928880"/>
            <a:ext cx="322200" cy="503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Strain and Phenotype Display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on the Gene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89548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a722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66294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d Strain Details Page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Development of a New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Developed in collaboration with NC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Similar in functionality to Phen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Web-based tool that can be accessed from any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Features of the New</a:t>
            </a:r>
            <a:br>
              <a:rPr sz="3600"/>
            </a:br>
            <a:r>
              <a:rPr b="1" lang="en-US" sz="3600" spc="-1" strike="noStrike">
                <a:solidFill>
                  <a:srgbClr val="394a6f"/>
                </a:solidFill>
                <a:latin typeface="Arial"/>
              </a:rPr>
              <a:t>Phenotype Annotation Tool</a:t>
            </a:r>
            <a:endParaRPr b="1" lang="en-US" sz="3600" spc="-1" strike="noStrike">
              <a:solidFill>
                <a:srgbClr val="394a6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Runs on top of the Chado database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Uses terms from ontologies in .obo format for phenotype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Auto-completes ontology terms similar to Google Sugg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9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94a6f"/>
                </a:solidFill>
                <a:latin typeface="Arial"/>
              </a:rPr>
              <a:t>Built using Web 2.0 technologies such as AJ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21:30:40Z</dcterms:created>
  <dc:creator>Petra Fey</dc:creator>
  <dc:description/>
  <dc:language>en-US</dc:language>
  <cp:lastModifiedBy> </cp:lastModifiedBy>
  <dcterms:modified xsi:type="dcterms:W3CDTF">2006-12-01T20:12:39Z</dcterms:modified>
  <cp:revision>37</cp:revision>
  <dc:subject/>
  <dc:title>Phenotype Curation Tool and Ontologies at dictyBase</dc:title>
</cp:coreProperties>
</file>